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81198"/>
        <c:axId val="62143635"/>
      </c:barChart>
      <c:catAx>
        <c:axId val="80781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43635"/>
        <c:crosses val="autoZero"/>
        <c:auto val="1"/>
        <c:lblAlgn val="ctr"/>
        <c:lblOffset val="100"/>
        <c:noMultiLvlLbl val="0"/>
      </c:catAx>
      <c:valAx>
        <c:axId val="62143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81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0EE-1284-49A3-904F-767CA665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4FC-71AF-4768-9CB6-4C9CAB1B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035-5942-401C-ADA0-2FE36766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5E7-C756-4367-9754-3938B088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6DB-3F11-4E5A-8664-76A777CD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166-EE57-4B74-88C3-2153142E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676-836A-4A57-99A7-83FB069A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631-E073-48B2-805D-37016561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06E-F7FF-4488-8634-609670C3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8AB-F92D-45D3-9557-AD3C2B45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2E1-0783-4D4C-8718-1A836487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015-77B1-4A57-A5C9-5F975E03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978A0-27AB-4CEB-838C-4E21B2277C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