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8736"/>
        <c:axId val="7617505"/>
      </c:barChart>
      <c:catAx>
        <c:axId val="4138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7505"/>
        <c:crosses val="autoZero"/>
        <c:auto val="1"/>
        <c:lblAlgn val="ctr"/>
        <c:lblOffset val="100"/>
        <c:noMultiLvlLbl val="0"/>
      </c:catAx>
      <c:valAx>
        <c:axId val="7617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8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AFE-EA1A-4665-9B87-AFA2929E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2AB-3121-4570-A849-F1631F9C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6A0-A5F4-4F28-A711-E11DECA0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B3A-A325-43B4-968E-02DAF7BD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DC9-1597-44BA-BCB1-AF080801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2CD-75FE-49A9-AF90-B7B0F99C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B07-30FE-4EC9-981E-AF683FA9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ECE-C749-4D8D-9E22-319DA585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D4B-D297-44FB-840B-E474C97D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F75-EA41-4E22-8F81-C738F616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9DC-495B-4750-914E-04347FD0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99A-CBC1-433A-B610-61D4F6BF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5B996-EE61-4979-AC22-3A3E1DEA16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