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30978"/>
        <c:axId val="72476245"/>
      </c:barChart>
      <c:catAx>
        <c:axId val="46830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76245"/>
        <c:crosses val="autoZero"/>
        <c:auto val="1"/>
        <c:lblAlgn val="ctr"/>
        <c:lblOffset val="100"/>
        <c:noMultiLvlLbl val="0"/>
      </c:catAx>
      <c:valAx>
        <c:axId val="72476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30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4AD-626D-407C-97AE-2D9A28B5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509-D512-40BF-8ED5-2D9FF55F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9EA-A9E6-4B9A-957B-FB6125A5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B16-356C-45D2-8586-5631C669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3C4-D3C7-4D4A-B531-92B3C2D4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998-5266-4FCE-9687-8E7649C0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A19-6195-4537-921C-2385267A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9D0-9A56-4D22-AD40-91020AE7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1C7-9F3C-464E-AF0F-7D0660B4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278-E72C-4CF2-A725-4B17B4CA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EE1-996B-41AA-9A20-D43FF1DF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30B-66AE-4917-A49F-699C361B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2D999-3C64-405A-BE0A-3FBFEF4E0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