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44350"/>
        <c:axId val="79723522"/>
      </c:barChart>
      <c:catAx>
        <c:axId val="11744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23522"/>
        <c:crosses val="autoZero"/>
        <c:auto val="1"/>
        <c:lblAlgn val="ctr"/>
        <c:lblOffset val="100"/>
        <c:noMultiLvlLbl val="0"/>
      </c:catAx>
      <c:valAx>
        <c:axId val="79723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44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4AA-8DEF-4274-91F1-BBEFBB43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BC2-36EC-48E7-9C13-DAE06B80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D91-E395-480F-8F09-2CAF8089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103-185D-4350-85CE-6971F127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93A-04EA-4ECE-93A5-6DF0D57B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1C0-BF27-436E-9135-4112D42D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3CD-5A43-4CD4-B100-6F779F88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F26-823B-4A07-B6E1-7C8751B4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C19-6EA0-4B79-9391-2F7C8CFB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EB9-69CF-439D-9C40-A6BDC26B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E0F-DFE6-4CA7-B86E-50EA68D1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68C-7D5F-4A8D-B33E-BACB4BDC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ECF05-0128-4372-8D56-D632806895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