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634372"/>
        <c:axId val="49297951"/>
      </c:barChart>
      <c:catAx>
        <c:axId val="566343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97951"/>
        <c:crosses val="autoZero"/>
        <c:auto val="1"/>
        <c:lblAlgn val="ctr"/>
        <c:lblOffset val="100"/>
        <c:noMultiLvlLbl val="0"/>
      </c:catAx>
      <c:valAx>
        <c:axId val="492979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6343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4957-52EA-45B2-A191-F35AA72ED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066F-783A-4130-A498-C9ED2197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7EFC-CCC5-47CD-BEEB-F41D77538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4A41-3782-4CE7-B019-6DF9E2B97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E1FA-E1A4-4E32-B02A-42BD06C0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63E8-B0B0-478C-B5D1-E3C101EB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4545-9913-4495-9518-738B68D8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7C03-0640-4AD3-A09A-637DA6AB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97DE-A888-4384-9003-7277C80E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D94E-F0D4-46CE-AFEF-7436326B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FC97-EE28-4B22-8795-9AA5C7C2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A9D8-8F26-4700-AA43-4E32BE8B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BC4B5-9DD1-41E0-86C9-086DC40444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