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9795234"/>
        <c:axId val="849919"/>
      </c:barChart>
      <c:catAx>
        <c:axId val="1979523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9919"/>
        <c:crosses val="autoZero"/>
        <c:auto val="1"/>
        <c:lblAlgn val="ctr"/>
        <c:lblOffset val="100"/>
        <c:noMultiLvlLbl val="0"/>
      </c:catAx>
      <c:valAx>
        <c:axId val="84991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79523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4D8D-5A5D-4A92-B39A-8C0134632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DB75-EEFB-408C-AA35-A06CE99FF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EC9C-6F3B-4AC4-BF60-9E2690A26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FBF1-56BF-407D-9AB4-C4F87BB3D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DBE9-2F41-4D15-AAD2-E5C9FC1F8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B0B4-0EAE-41BA-940D-0684ED4F1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3F60-9432-415C-81BC-2FCB8C805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3F4D-C153-4C81-B4D6-79D72FF85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EB4D-F570-43E7-9A49-6CB788D27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4F38-69F5-41AC-8379-1F4BB303C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018B-2468-4AA8-81C5-882346250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4C46-5584-411C-AE02-788A8A148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E2025A-92FD-45CB-81D4-0752C744696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