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055429"/>
        <c:axId val="86537236"/>
      </c:barChart>
      <c:catAx>
        <c:axId val="800554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537236"/>
        <c:crosses val="autoZero"/>
        <c:auto val="1"/>
        <c:lblAlgn val="ctr"/>
        <c:lblOffset val="100"/>
        <c:noMultiLvlLbl val="0"/>
      </c:catAx>
      <c:valAx>
        <c:axId val="865372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554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DF8-7728-430A-A525-C9FAE694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4D01-3AC1-4914-935C-D50CA286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3736-DF2F-433D-9EE0-C8FD005E4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F45-1344-45B4-9312-13945AEBC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7DC6-2AB5-4AE9-B32D-21960730D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E01A-F411-4369-9E60-EBA59C36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2C9-C19C-4C72-BDED-BED5CBB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4FC-5BDE-4B50-899B-A940DE6D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6A2-ADF0-4639-9F62-1DA5F5C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C094-75BF-4248-9889-9F212041C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ED0B-BC65-4BE1-A5CC-9759A584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5E60-6BAE-42A4-B2EF-45307FB3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85328-4D34-44D8-A7A8-1CC7A6D63A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