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87852"/>
        <c:axId val="70103983"/>
      </c:barChart>
      <c:catAx>
        <c:axId val="15087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03983"/>
        <c:crosses val="autoZero"/>
        <c:auto val="1"/>
        <c:lblAlgn val="ctr"/>
        <c:lblOffset val="100"/>
        <c:noMultiLvlLbl val="0"/>
      </c:catAx>
      <c:valAx>
        <c:axId val="70103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87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12D-3B65-423E-AFA2-003C33FF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510-1973-463E-B097-9115DC0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869-BF91-4D85-B032-4FAED2F6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4A9-90E5-4019-AE8B-0C3D37B8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B8D-76C6-4051-A3A0-A4E7438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F71-B5DF-4316-98DD-66402137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CB4-E23B-4E10-96CC-4C5086B4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4DD-3873-41D7-A7B8-8852560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8E9-7897-4223-B30C-70D75CE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017-E292-4BA1-91CB-E2701556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464-81AE-477B-B3AC-405355A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515-8DE1-49B2-B595-BEF196F5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B9D55-5D13-44D5-B4CA-3051C3194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