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91639"/>
        <c:axId val="39708323"/>
      </c:barChart>
      <c:catAx>
        <c:axId val="964916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08323"/>
        <c:crosses val="autoZero"/>
        <c:auto val="1"/>
        <c:lblAlgn val="ctr"/>
        <c:lblOffset val="100"/>
        <c:noMultiLvlLbl val="0"/>
      </c:catAx>
      <c:valAx>
        <c:axId val="39708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916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28E5-D925-4917-9A85-ED9BEF5E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B96-BE8E-45B7-B4BB-16F8649B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F49-075D-4403-96D3-C59B0154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5705-E597-463D-B171-B10EDB0A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EF71-D4B9-4E02-9A2E-E07259F3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4CA0-9570-44F0-8C9B-AC100A46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70CC-FB64-47CA-8192-4AAB1B85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DAA-012A-4A5A-869D-3A842534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52A2-1DD7-432B-870E-CA43F6C1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C67-2513-48E5-856E-54440287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234-EF27-46FA-B521-F95BD304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B01-766D-4CCB-A11C-17DA2A62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E6B5D-F2BC-40E1-8FF8-140A412789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