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889429"/>
        <c:axId val="21564546"/>
      </c:barChart>
      <c:catAx>
        <c:axId val="838894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64546"/>
        <c:crosses val="autoZero"/>
        <c:auto val="1"/>
        <c:lblAlgn val="ctr"/>
        <c:lblOffset val="100"/>
        <c:noMultiLvlLbl val="0"/>
      </c:catAx>
      <c:valAx>
        <c:axId val="215645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894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1942-94AA-407B-80BB-985E502E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99A3-CE1F-4A2D-99AF-EA103857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781E-0894-44A9-8362-CE5B32EA3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53AB-31A3-4B74-A072-EC283683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A69C-AFF0-4E36-BD98-0CE08D27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785B-698E-4C3B-80A7-563C5D4D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B5D4-7F18-4BD3-AA83-B2BD4D35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53D2-96B0-4D44-B7F4-706D2780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C5CA-AE33-43BC-BEC4-7E65AC9F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CABA-4EC4-4576-8A20-B90E5D85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1D83-6810-4EE0-A1C8-580DECE4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6DCB-E76E-46A2-9284-6ADA48CE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E81F8-E01B-4B50-910D-B3CF49293E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