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78654"/>
        <c:axId val="81411898"/>
      </c:barChart>
      <c:catAx>
        <c:axId val="5317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1898"/>
        <c:crosses val="autoZero"/>
        <c:auto val="1"/>
        <c:lblAlgn val="ctr"/>
        <c:lblOffset val="100"/>
        <c:noMultiLvlLbl val="0"/>
      </c:catAx>
      <c:valAx>
        <c:axId val="81411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7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E93-D19C-48CC-AEF7-517902A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AEA-EFEA-45C6-A389-08494B3C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895-3F22-4B9B-9515-1F58F00B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11B-E635-47D0-A557-450031CB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2C6-B300-434A-AB98-564E1F0B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F6A-48AF-4D6E-A896-0E31D51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C72-C733-466A-8A7B-195358E9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BE8-EB85-4C42-9E77-A08BFBF2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140-D154-43DF-BF22-0037A3BC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576-1626-48A2-8F4F-8C56AE03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B2D-F92F-4A6F-9487-0CA8167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3B5-3433-4935-AF83-F205B18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022AE-F9F7-4E98-915A-EECF6A7EC5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